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96A2-6DBC-44B9-AEB1-B9D9E1FB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54FC-4015-46BE-BC01-A67BE420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589B-28B2-4BEB-9168-87BD8E31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6D3-7975-4680-944A-56064AFA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07F1-3742-41C4-92A8-A4E7B01B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F823-D04F-4450-992D-55484AB8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55AE-E87C-4401-A89E-D5261E95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12B1-A384-4540-B24A-B9B2B39F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C815-D7BF-4610-ADE8-791C36D5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72F5-8113-4673-9911-20443579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ACE2-0798-4EA5-BE9C-925367C3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AA67-529E-4B32-BB8D-F8C10F55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09D7-0C30-4399-91EB-FF93AF4E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5538-13C0-446B-B633-26853EBB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8597-2298-4A57-83A3-A9D754B1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29A7-1227-4F9C-98C0-09FC187A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6C3E-9A00-4CC2-8CE8-6BD2448D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2E3F-4A8A-4DC7-8EE1-52DCEC68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3F24-8FA3-44F6-B81B-4C238DD7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DBA-6979-4BED-B454-918A42E1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0FC1-AAB1-434A-A317-8F591145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E102-290F-4DA0-8BC5-BE32567F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0DEC-4186-4AD1-A5E2-F84955CE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0DD8-8A00-4EE6-8B20-16A7CAE4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38136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4000" y="6381360"/>
            <a:ext cx="569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43280" y="63813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CAF2-D9AB-496B-9F9A-12F31D2F625D}" type="slidenum">
              <a:rPr b="0" lang="zh-TW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r>
              <a:rPr b="0" lang="zh-TW" sz="1400" spc="-1" strike="noStrike">
                <a:solidFill>
                  <a:srgbClr val="080808"/>
                </a:solidFill>
                <a:latin typeface="Times New Roman"/>
              </a:rPr>
              <a:t>/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4000" y="6244920"/>
            <a:ext cx="569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91A0-7E2B-4F16-BD62-28CD4EB3A698}" type="slidenum">
              <a:rPr b="0" lang="zh-TW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r>
              <a:rPr b="0" lang="zh-TW" sz="1400" spc="-1" strike="noStrike">
                <a:solidFill>
                  <a:srgbClr val="080808"/>
                </a:solidFill>
                <a:latin typeface="Times New Roman"/>
              </a:rPr>
              <a:t>/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42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Planning and Management in </a:t>
            </a:r>
            <a:r>
              <a:rPr b="0" lang="en-US" sz="4000" spc="-1" strike="noStrike">
                <a:solidFill>
                  <a:srgbClr val="0039ac"/>
                </a:solidFill>
                <a:latin typeface="Arial"/>
              </a:rPr>
              <a:t>Wireless Sensor Network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80808"/>
                </a:solidFill>
                <a:latin typeface="Arial"/>
              </a:rPr>
              <a:t>Qualifying Exam</a:t>
            </a:r>
            <a:r>
              <a:rPr b="0" lang="en-US" sz="4000" spc="-1" strike="noStrike">
                <a:solidFill>
                  <a:srgbClr val="0039a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592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Adviser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：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Yeong-Sung Lin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Graduate Student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：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Cheng-Ta Le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Department of Information Managemen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National Taiwan University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Nov. 16 2004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02CC-9BE1-4E6D-9FE0-7053C07C69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Data Delivery Models [7] 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nsor networks can be classified in terms of the data delivery required by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Application (observer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ontinuou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Event-drive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bserver-initiated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ybrid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Routing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Broadcas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Unicas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ulticas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1EA-62BF-446C-B282-E960B3A9B3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Network Dynamics Models [7]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tatic Sensor Network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In static sensor network, there is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no motion among communication sensors, the observer and the phenomenon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ynamic Sensor Network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In dynamic sensor networks, either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he sensors themselves, the observer, or the phenomenon are mobile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CB45-38EB-474E-8944-447126FDAC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Sensor Networks Applications [8]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ilitary application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Monitoring friendly forces, equipment and ammunitio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nvironmental application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rest fire detectio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ealth application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elemonitoring of human physiological data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onstruction and city management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Vehicle tracking and detectio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ommercial application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Environmental control in office building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ounterterrorism and public security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Monitor harmful and dangerous matter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397D-E05B-4988-9A9D-40539616DA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II. Design and Engineering in Wireless Sensor Networks</a:t>
            </a:r>
            <a:r>
              <a:rPr b="0" lang="en-US" sz="4000" spc="-1" strike="noStrike">
                <a:solidFill>
                  <a:srgbClr val="0039a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actors Influencing Sensor Network Design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ystem Evaluation Metrics (QoS)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Individual Node Evaluation Metrics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ommunication Architecture in Wireless Sensor Networks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Wireless Sensor Networks Traffic Engineering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8C42-8D4B-4CCE-9A24-F0013E8146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Factors Influencing Sensor Network Design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ault tolerance [7]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Lack of power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hysical damag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Environmental interferenc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calability [8]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he number of sensor nodes are hug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Routing protocol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istributive computation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Production cos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he cost of each sensor node has to be kept low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Hardware constraints [25,26]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hysical size of each individual sensor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node has a significant and direct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mpact on ease of deploymen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nsor network topology [8]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nning and deployment phas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ost-deployment phas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Redeployment of additional nodes phas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Environment [8]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hey usually work unattended in remote geographic area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ransmission media [8]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Radio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nfrar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ptical medi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Power consumption [8]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ensin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ata processin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76B6-E8F2-4F0C-9367-ABA222D436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9ac"/>
                </a:solidFill>
                <a:latin typeface="Arial"/>
              </a:rPr>
              <a:t>System Evaluation Metrics (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QoS</a:t>
            </a:r>
            <a:r>
              <a:rPr b="0" lang="en-US" sz="4000" spc="-1" strike="noStrike">
                <a:solidFill>
                  <a:srgbClr val="0039ac"/>
                </a:solidFill>
                <a:latin typeface="Arial"/>
              </a:rPr>
              <a:t>) </a:t>
            </a:r>
            <a:r>
              <a:rPr b="0" lang="en-US" sz="3600" spc="-1" strike="noStrike">
                <a:solidFill>
                  <a:srgbClr val="0039ac"/>
                </a:solidFill>
                <a:latin typeface="Arial"/>
              </a:rPr>
              <a:t>[19]</a:t>
            </a:r>
            <a:r>
              <a:rPr b="0" lang="en-US" sz="4000" spc="-1" strike="noStrike">
                <a:solidFill>
                  <a:srgbClr val="0039a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Lifetime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he most significant factor in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etermining lifetime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of a given energy supply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radio power consumption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Coverage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Next to lifetime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, coverage is the primary evaluation metric for a wireless network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Complete coverag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Complete discriminated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Cost and Ease of Deployment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ey advantage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of wireless sensor networks is their cost and ease of deploymen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Response Time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n alarm must be signaled immediately when an intrusion is detect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emporal Accuracy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environmental and tracking applications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, samples from multiple nodes must b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ross-correlated in time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in order to determine the nature of phenomenon being measured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curity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eeping this information secure can be extremely importan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Effective Sample Rate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n a data collection network, effective sample rate is a primary application performance metric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A421-02CE-4563-B009-8F2EE9A201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9ac"/>
                </a:solidFill>
                <a:latin typeface="Arial"/>
              </a:rPr>
              <a:t>Individual Node Evaluation Metrics [19]</a:t>
            </a:r>
            <a:r>
              <a:rPr b="0" lang="en-US" sz="4000" spc="-1" strike="noStrike">
                <a:solidFill>
                  <a:srgbClr val="0039a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ower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To meet the multi-year application requirements individual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ensor nodes must be incredibly low-power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Low duty-cycl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lexibility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ode architecture must be flexibl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Robustness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n order to support the lifetime requirements demanded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, each node must be constructed to be as robust as possibl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curity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Individual nodes must be capable of performing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complex encrypting and authentication algorithm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Higher communication rates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translate into the ability to achieve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higher effective sampling rates and lower network power consumption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omputation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wo most computationally intensive operations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for a wireless sensor node are the in-network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data processing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and the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management of the low-level wireless communication protocol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ime Synchronization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rors in the timing mechanism will create inefficiencies that result in increased duty cycle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ize and Cost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physical size and cost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of each individual sensor node has a significant and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direct impact on the ease and cost of deployment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C69-8EB5-42AB-ABDA-35074A2B57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9ac"/>
                </a:solidFill>
                <a:latin typeface="Arial"/>
              </a:rPr>
              <a:t>Communication Architecture in Wireless Sensor Networks [8] 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anagement plan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76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80808"/>
                </a:solidFill>
                <a:latin typeface="Arial"/>
              </a:rPr>
              <a:t>Power management plan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Manages how a sensor node uses its power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76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80808"/>
                </a:solidFill>
                <a:latin typeface="Arial"/>
              </a:rPr>
              <a:t>Mobility management plan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tects and registers the movement of sensor node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76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80808"/>
                </a:solidFill>
                <a:latin typeface="Arial"/>
              </a:rPr>
              <a:t>Task management plan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Balances and schedules the sensing task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Protocol stack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76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80808"/>
                </a:solidFill>
                <a:latin typeface="Arial"/>
              </a:rPr>
              <a:t>Physic layer 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76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80808"/>
                </a:solidFill>
                <a:latin typeface="Arial"/>
              </a:rPr>
              <a:t>Data link layer 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76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80808"/>
                </a:solidFill>
                <a:latin typeface="Arial"/>
              </a:rPr>
              <a:t>Network layer 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76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80808"/>
                </a:solidFill>
                <a:latin typeface="Arial"/>
              </a:rPr>
              <a:t>Transport layer 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76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80808"/>
                </a:solidFill>
                <a:latin typeface="Arial"/>
              </a:rPr>
              <a:t>Application layer 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878360" y="1849320"/>
            <a:ext cx="3733920" cy="400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8A5B-6A7B-4B7D-84B6-F628138B6A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Physic Layer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The physical layer is responsible for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Frequency selectio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Carrier frequency generatio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Signal detectio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Modulatio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Data encryptio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System on Chip (SoC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Micro-Electron-Mechanical-Systems (MEM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E40B-DD09-4E7E-856C-D6AB5589BB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Data link Layer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e data link layer is responsible for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ultiplexing of data stream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ata frame detectio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edium acces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rror contro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e MAC protocol must two goal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reation of the network infrastructur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Fairly and efficiently share communication resources between sensor nod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93E7-1896-4FBD-A2A2-986D6EFBF4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.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Introduction to Wireless Sensor Networks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I.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Design and Engineering in Wireless Sensor Networks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II.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Routing in Wireless Sensor Networks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V.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Research Teams and Related Work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V.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Platforms of Wireless Sensor Networks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VI.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uture Research Direction and Research Method  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05BA-9718-4B66-A4D4-A7CA077C82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9ac"/>
                </a:solidFill>
                <a:latin typeface="Arial"/>
              </a:rPr>
              <a:t>Media Access Control (MAC) Scheme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413000"/>
            <a:ext cx="85406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ontention-based schemes (CSMA-based)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[19]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esigned for minimum delay and maximum throughpu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Require transceivers to monitor the channel at all tim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Reservation-based or schedule-based schem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DMA —a natural choice for sensor network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ensor-MAC (SMAC)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[15]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odes periodically sleep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A node sleeps during transmission period of other nod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ot suitable for time-critical application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DM-FDM Scheme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[1]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Both time and frequency are divided into available transmission slo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0808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80808"/>
                </a:solidFill>
                <a:latin typeface="Arial"/>
              </a:rPr>
              <a:t>on-tx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is minimized in TDMA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0808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80808"/>
                </a:solidFill>
                <a:latin typeface="Arial"/>
              </a:rPr>
              <a:t>on-tx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is maximized in FDMA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73A-EE56-421E-8FA7-F2BEC1A826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Network Layer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The networking layer of sensor networks is usually designed according to the following principle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Power efficiency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is always an important consideration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ensor networks are mostl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ata centric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ata aggregation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is useful only when it does not hinder the collaborative effort of the sensor nod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An ideal sensor network has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ttribute-based addressing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ata is named by one or more attribut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Example: 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[type= humidity,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imestamp=01/01/2004/06:30:15,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location=60N/90E, humidity=50]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05F9-64E3-4349-80C7-D211196EDF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9ac"/>
                </a:solidFill>
                <a:latin typeface="Arial"/>
              </a:rPr>
              <a:t>The power efficiency of the routes [8]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It has the following four possible routes to communicate with the sink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Route 1: Sink-A-B-T, total PA=4, total α=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Route 2: Sink-A-B-C-T, total PA=6, total α= 6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Route 3: Sink-D-T, total PA=3, total α= 4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Route 4: Sink-E-F-T, total PA=5, total α= 6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aximum available power (PA) route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: Route 4 is the PA rout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inimum energy (ME) route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: Route 1 is the ME rout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inimum hop (MH)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route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: Route 3 is the MH rout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aximum minimum PA node route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: Route 3 is the most efficient and Route 1 is the second efficient path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48320" y="2023920"/>
            <a:ext cx="4194000" cy="365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B684-B245-4178-929B-EC442D3B04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9ac"/>
                </a:solidFill>
                <a:latin typeface="Arial"/>
              </a:rPr>
              <a:t>Implosion Problem and </a:t>
            </a:r>
            <a:br>
              <a:rPr sz="4000"/>
            </a:br>
            <a:r>
              <a:rPr b="0" lang="en-US" sz="4000" spc="-1" strike="noStrike">
                <a:solidFill>
                  <a:srgbClr val="0039ac"/>
                </a:solidFill>
                <a:latin typeface="Arial"/>
              </a:rPr>
              <a:t>Overlap Problem 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implosion problem                    The overlap problem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116000" y="1773360"/>
            <a:ext cx="2971800" cy="3524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643280" y="1989000"/>
            <a:ext cx="4152960" cy="330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6835-09BD-4BC2-9996-9F7F22C301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Data Aggregation [9] 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ata aggregation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technique used to solve the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mplosion and overlap problems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n data-centric routing”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648320" y="1893960"/>
            <a:ext cx="4194000" cy="39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8F28-B1E0-4BC2-BB07-D3D3A13558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Grouping [3]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 sensor network (left)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with an in-network,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rouped aggregate applied to it (right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7704000" cy="38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D933-22FE-4C51-AF53-E7E6839DBC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9ac"/>
                </a:solidFill>
                <a:latin typeface="Arial"/>
              </a:rPr>
              <a:t>Addressing for Wireless Sensor Networks 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n address-free architectur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Not applicable when static addressing of nodes is neede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Identifier conflic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pecial addressing requiremen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Local unique address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Example: What is the humidity at sensor #192.168.84.2 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IPv6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A4C4-170F-4C42-BE63-5012E86CCA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9ac"/>
                </a:solidFill>
                <a:latin typeface="Arial"/>
              </a:rPr>
              <a:t>Transport Layer and </a:t>
            </a:r>
            <a:br>
              <a:rPr sz="4000"/>
            </a:br>
            <a:r>
              <a:rPr b="0" lang="en-US" sz="4000" spc="-1" strike="noStrike">
                <a:solidFill>
                  <a:srgbClr val="0039ac"/>
                </a:solidFill>
                <a:latin typeface="Arial"/>
              </a:rPr>
              <a:t>Application Layer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ransport layer is especially needed when the system is planned to b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ccessed through Internet or other external” network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Protoco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CP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hree possible application layer protocol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ensor Management Protocol (SMP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SMP needs to access the nodes by using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ttribute-based naming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location-based addressing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ask Assignment and Data Advertisement Protocol (TADAP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Users send their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nterest to a sensor node, a subset of the nodes or whole network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ensor Query and Data Dissemination Protocol (SQDDP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SQDDP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provides user applications with interfaces to issue queries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, respond to queries and collect incoming replies”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2D52-B4C6-4258-8FB3-00E5D8EBB5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9ac"/>
                </a:solidFill>
                <a:latin typeface="Arial"/>
              </a:rPr>
              <a:t>Wireless Sensor Networks Traffic Engineering [36] 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Traffic Analysis and Modeling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Network Planning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3300"/>
                </a:solidFill>
                <a:latin typeface="Arial"/>
              </a:rPr>
              <a:t>Minimum installation and operation cost 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subject to</a:t>
            </a:r>
            <a:r>
              <a:rPr b="0" lang="zh-TW" sz="1400" spc="-1" strike="noStrike">
                <a:solidFill>
                  <a:srgbClr val="cc3300"/>
                </a:solidFill>
                <a:latin typeface="Arial"/>
              </a:rPr>
              <a:t> performance (QoS)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Network Performance Optimization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3300"/>
                </a:solidFill>
                <a:latin typeface="Arial"/>
              </a:rPr>
              <a:t>For an in-service traffic network, to assure pre-specified QoS requirements and/or to optimize certain performance measures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Network Performance Monitoring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To collect traffic measurements for load forecasting purposes (</a:t>
            </a:r>
            <a:r>
              <a:rPr b="0" lang="zh-TW" sz="1400" spc="-1" strike="noStrike">
                <a:solidFill>
                  <a:srgbClr val="cc3300"/>
                </a:solidFill>
                <a:latin typeface="Arial"/>
              </a:rPr>
              <a:t>to feed the servicing and the capacity expansion processes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Network Servicing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3300"/>
                </a:solidFill>
                <a:latin typeface="Arial"/>
              </a:rPr>
              <a:t>Traffic rerouting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3300"/>
                </a:solidFill>
                <a:latin typeface="Arial"/>
              </a:rPr>
              <a:t>Resource reallocation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3300"/>
                </a:solidFill>
                <a:latin typeface="Arial"/>
              </a:rPr>
              <a:t>capacity augmentation (minimal-cost capacity augmentation to satisfy the current demand)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Network Capacity Expansion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3300"/>
                </a:solidFill>
                <a:latin typeface="Arial"/>
              </a:rPr>
              <a:t>The total cost, considering the effect of economies of scale and composite cost of money, is minimized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37560" y="2053440"/>
            <a:ext cx="4008240" cy="3756960"/>
            <a:chOff x="637560" y="2053440"/>
            <a:chExt cx="4008240" cy="3756960"/>
          </a:xfrm>
        </p:grpSpPr>
        <p:sp>
          <p:nvSpPr>
            <p:cNvPr id="187" name=""/>
            <p:cNvSpPr/>
            <p:nvPr/>
          </p:nvSpPr>
          <p:spPr>
            <a:xfrm>
              <a:off x="637560" y="3831480"/>
              <a:ext cx="973440" cy="79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2480" y="3994560"/>
              <a:ext cx="69984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2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lanning</a:t>
              </a:r>
              <a:endParaRPr b="0" lang="en-US" sz="12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82880" y="5013000"/>
              <a:ext cx="973440" cy="79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2880" y="3831480"/>
              <a:ext cx="973440" cy="79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79680" y="5013000"/>
              <a:ext cx="973440" cy="79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79680" y="3831480"/>
              <a:ext cx="973440" cy="79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20000" y="4261680"/>
              <a:ext cx="35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64960" y="4261680"/>
              <a:ext cx="40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40840" y="4640040"/>
              <a:ext cx="0" cy="36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495520" y="4629240"/>
              <a:ext cx="0" cy="38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63440" y="3868200"/>
              <a:ext cx="989280" cy="6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rformance</a:t>
              </a:r>
              <a:endParaRPr b="0" lang="en-US" sz="12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ssurance &amp;</a:t>
              </a:r>
              <a:endParaRPr b="0" lang="en-US" sz="12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ptimization</a:t>
              </a:r>
              <a:endParaRPr b="0" lang="en-US" sz="12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48080" y="3994560"/>
              <a:ext cx="86904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2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nitoring</a:t>
              </a:r>
              <a:endParaRPr b="0" lang="en-US" sz="12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6400" y="5175720"/>
              <a:ext cx="746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2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rvicing</a:t>
              </a:r>
              <a:endParaRPr b="0" lang="en-US" sz="12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52720" y="5051880"/>
              <a:ext cx="812880" cy="6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2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pacity</a:t>
              </a:r>
              <a:endParaRPr b="0" lang="en-US" sz="12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endParaRPr b="0" lang="en-US" sz="12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955960" y="4640040"/>
              <a:ext cx="423000" cy="36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2955960" y="4629240"/>
              <a:ext cx="423000" cy="38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97280" y="2053440"/>
              <a:ext cx="973440" cy="798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41280" y="2237400"/>
              <a:ext cx="69120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affic</a:t>
              </a:r>
              <a:endParaRPr b="0" lang="en-US" sz="12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nalysis</a:t>
              </a:r>
              <a:endParaRPr b="0" lang="en-US" sz="12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67120" y="5418000"/>
              <a:ext cx="40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cxnSp>
          <p:nvCxnSpPr>
            <p:cNvPr id="206" name=""/>
            <p:cNvCxnSpPr>
              <a:stCxn id="203" idx="2"/>
              <a:endCxn id="187" idx="0"/>
            </p:cNvCxnSpPr>
            <p:nvPr/>
          </p:nvCxnSpPr>
          <p:spPr>
            <a:xfrm flipH="1">
              <a:off x="1123560" y="2851920"/>
              <a:ext cx="1360440" cy="979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3" idx="2"/>
            </p:cNvCxnSpPr>
            <p:nvPr/>
          </p:nvCxnSpPr>
          <p:spPr>
            <a:xfrm flipH="1">
              <a:off x="2478600" y="2851560"/>
              <a:ext cx="5760" cy="97920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08" name=""/>
            <p:cNvCxnSpPr>
              <a:stCxn id="203" idx="2"/>
              <a:endCxn id="192" idx="0"/>
            </p:cNvCxnSpPr>
            <p:nvPr/>
          </p:nvCxnSpPr>
          <p:spPr>
            <a:xfrm>
              <a:off x="2484000" y="2851920"/>
              <a:ext cx="1383120" cy="979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209" name=""/>
            <p:cNvSpPr/>
            <p:nvPr/>
          </p:nvSpPr>
          <p:spPr>
            <a:xfrm>
              <a:off x="2477520" y="2846160"/>
              <a:ext cx="2168280" cy="2588040"/>
            </a:xfrm>
            <a:custGeom>
              <a:avLst/>
              <a:gdLst/>
              <a:ahLst/>
              <a:rect l="l" t="t" r="r" b="b"/>
              <a:pathLst>
                <a:path w="3732" h="4455">
                  <a:moveTo>
                    <a:pt x="73" y="76"/>
                  </a:moveTo>
                  <a:lnTo>
                    <a:pt x="0" y="0"/>
                  </a:lnTo>
                  <a:cubicBezTo>
                    <a:pt x="360" y="47"/>
                    <a:pt x="1652" y="127"/>
                    <a:pt x="2235" y="360"/>
                  </a:cubicBezTo>
                  <a:cubicBezTo>
                    <a:pt x="2818" y="593"/>
                    <a:pt x="3258" y="833"/>
                    <a:pt x="3495" y="1395"/>
                  </a:cubicBezTo>
                  <a:cubicBezTo>
                    <a:pt x="3732" y="1957"/>
                    <a:pt x="3705" y="3225"/>
                    <a:pt x="3660" y="3735"/>
                  </a:cubicBezTo>
                  <a:cubicBezTo>
                    <a:pt x="3615" y="4245"/>
                    <a:pt x="3297" y="4335"/>
                    <a:pt x="3225" y="445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37280" y="2846160"/>
              <a:ext cx="882720" cy="2588040"/>
            </a:xfrm>
            <a:custGeom>
              <a:avLst/>
              <a:gdLst/>
              <a:ahLst/>
              <a:rect l="l" t="t" r="r" b="b"/>
              <a:pathLst>
                <a:path w="1520" h="4455">
                  <a:moveTo>
                    <a:pt x="1520" y="76"/>
                  </a:moveTo>
                  <a:lnTo>
                    <a:pt x="1447" y="0"/>
                  </a:lnTo>
                  <a:cubicBezTo>
                    <a:pt x="1230" y="205"/>
                    <a:pt x="434" y="688"/>
                    <a:pt x="217" y="1305"/>
                  </a:cubicBezTo>
                  <a:cubicBezTo>
                    <a:pt x="0" y="1922"/>
                    <a:pt x="79" y="3180"/>
                    <a:pt x="142" y="3705"/>
                  </a:cubicBezTo>
                  <a:cubicBezTo>
                    <a:pt x="205" y="4230"/>
                    <a:pt x="517" y="4330"/>
                    <a:pt x="592" y="445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1463-347F-479C-8422-28E61DB7DC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III. Routing in Wireless Sensor Networks</a:t>
            </a:r>
            <a:r>
              <a:rPr b="0" lang="en-US" sz="4000" spc="-1" strike="noStrike">
                <a:solidFill>
                  <a:srgbClr val="0039a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lat Routing Protocol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Direct Communication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Multi-hop Routing Protocols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PIN [9]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Directed Diffusion [10]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Hierarchical Routing Protocols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LEACH [11]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TEEN [20]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5F75-8C3E-42A8-88E8-41FD508C83F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I. Introduction to Wireless Sensor Networks</a:t>
            </a:r>
            <a:r>
              <a:rPr b="0" lang="en-US" sz="4000" spc="-1" strike="noStrike">
                <a:solidFill>
                  <a:srgbClr val="0039a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Hardware Structure and Function for Wireless Sensor Networks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ommunication Models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Data Delivery Models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Network Dynamics Models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Wireless Sensor Networks Applications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AD07-0B2C-4C2E-A60E-EEF71496C0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Direct Communication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080440" y="3155040"/>
            <a:ext cx="4896360" cy="3160440"/>
            <a:chOff x="2080440" y="3155040"/>
            <a:chExt cx="4896360" cy="3160440"/>
          </a:xfrm>
        </p:grpSpPr>
        <p:sp>
          <p:nvSpPr>
            <p:cNvPr id="215" name=""/>
            <p:cNvSpPr/>
            <p:nvPr/>
          </p:nvSpPr>
          <p:spPr>
            <a:xfrm>
              <a:off x="3027240" y="3787560"/>
              <a:ext cx="474480" cy="473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80440" y="4261320"/>
              <a:ext cx="473040" cy="474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17800" y="3629160"/>
              <a:ext cx="473040" cy="474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4080" y="3629160"/>
              <a:ext cx="473040" cy="474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03760" y="4893480"/>
              <a:ext cx="473040" cy="474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29280" y="3945240"/>
              <a:ext cx="474120" cy="474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17800" y="5683680"/>
              <a:ext cx="946440" cy="631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Sink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  <p:cxnSp>
          <p:nvCxnSpPr>
            <p:cNvPr id="222" name=""/>
            <p:cNvCxnSpPr>
              <a:stCxn id="216" idx="5"/>
              <a:endCxn id="221" idx="0"/>
            </p:cNvCxnSpPr>
            <p:nvPr/>
          </p:nvCxnSpPr>
          <p:spPr>
            <a:xfrm>
              <a:off x="2484360" y="4665960"/>
              <a:ext cx="1807200" cy="1017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215" idx="4"/>
              <a:endCxn id="221" idx="0"/>
            </p:cNvCxnSpPr>
            <p:nvPr/>
          </p:nvCxnSpPr>
          <p:spPr>
            <a:xfrm>
              <a:off x="3264120" y="4261320"/>
              <a:ext cx="1027080" cy="142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20" idx="4"/>
              <a:endCxn id="221" idx="0"/>
            </p:cNvCxnSpPr>
            <p:nvPr/>
          </p:nvCxnSpPr>
          <p:spPr>
            <a:xfrm flipH="1">
              <a:off x="4290480" y="4419000"/>
              <a:ext cx="1976040" cy="126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7" idx="4"/>
              <a:endCxn id="221" idx="0"/>
            </p:cNvCxnSpPr>
            <p:nvPr/>
          </p:nvCxnSpPr>
          <p:spPr>
            <a:xfrm>
              <a:off x="4054680" y="4102920"/>
              <a:ext cx="236880" cy="1580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8" idx="4"/>
              <a:endCxn id="221" idx="0"/>
            </p:cNvCxnSpPr>
            <p:nvPr/>
          </p:nvCxnSpPr>
          <p:spPr>
            <a:xfrm flipH="1">
              <a:off x="4290840" y="4102920"/>
              <a:ext cx="870480" cy="1580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9" idx="3"/>
              <a:endCxn id="221" idx="0"/>
            </p:cNvCxnSpPr>
            <p:nvPr/>
          </p:nvCxnSpPr>
          <p:spPr>
            <a:xfrm flipH="1">
              <a:off x="4290480" y="5298480"/>
              <a:ext cx="2282760" cy="385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8" name=""/>
            <p:cNvSpPr/>
            <p:nvPr/>
          </p:nvSpPr>
          <p:spPr>
            <a:xfrm>
              <a:off x="3343320" y="3155040"/>
              <a:ext cx="142236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Sensor  node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Sensor nodes communicate with the sink 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directl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Energy consumption: </a:t>
            </a:r>
            <a:r>
              <a:rPr b="0" i="1" lang="zh-TW" sz="32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0" i="1" lang="zh-TW" sz="3200" spc="-1" strike="noStrike" baseline="30000">
                <a:solidFill>
                  <a:srgbClr val="cc3300"/>
                </a:solidFill>
                <a:latin typeface="Arial"/>
              </a:rPr>
              <a:t>n</a:t>
            </a:r>
            <a:r>
              <a:rPr b="0" i="1" lang="zh-TW" sz="3200" spc="-1" strike="noStrike">
                <a:solidFill>
                  <a:srgbClr val="080808"/>
                </a:solidFill>
                <a:latin typeface="Arial"/>
              </a:rPr>
              <a:t>, 2≦n≦6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82D5-A661-4660-8C50-B2A35F5914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Multi-hop Routing Protocols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17200" y="2036160"/>
            <a:ext cx="6335280" cy="3840480"/>
            <a:chOff x="1717200" y="2036160"/>
            <a:chExt cx="6335280" cy="3840480"/>
          </a:xfrm>
        </p:grpSpPr>
        <p:sp>
          <p:nvSpPr>
            <p:cNvPr id="232" name=""/>
            <p:cNvSpPr/>
            <p:nvPr/>
          </p:nvSpPr>
          <p:spPr>
            <a:xfrm>
              <a:off x="1908720" y="2420280"/>
              <a:ext cx="575280" cy="57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67760" y="2804760"/>
              <a:ext cx="576720" cy="57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76600" y="3956760"/>
              <a:ext cx="574200" cy="57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17200" y="3380400"/>
              <a:ext cx="575280" cy="57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28600" y="3572640"/>
              <a:ext cx="575280" cy="57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28600" y="2612520"/>
              <a:ext cx="575280" cy="57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73200" y="4340520"/>
              <a:ext cx="576720" cy="57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32600" y="3956760"/>
              <a:ext cx="577800" cy="57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73200" y="2612520"/>
              <a:ext cx="575280" cy="57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77200" y="2420280"/>
              <a:ext cx="575280" cy="57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16720" y="2996640"/>
              <a:ext cx="576360" cy="57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25200" y="2036160"/>
              <a:ext cx="575280" cy="57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28600" y="5108760"/>
              <a:ext cx="115056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Sink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  <p:cxnSp>
          <p:nvCxnSpPr>
            <p:cNvPr id="245" name=""/>
            <p:cNvCxnSpPr>
              <a:stCxn id="232" idx="4"/>
              <a:endCxn id="235" idx="0"/>
            </p:cNvCxnSpPr>
            <p:nvPr/>
          </p:nvCxnSpPr>
          <p:spPr>
            <a:xfrm flipH="1">
              <a:off x="2005200" y="2996640"/>
              <a:ext cx="190800" cy="384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5" idx="5"/>
              <a:endCxn id="234" idx="1"/>
            </p:cNvCxnSpPr>
            <p:nvPr/>
          </p:nvCxnSpPr>
          <p:spPr>
            <a:xfrm>
              <a:off x="2207520" y="3872160"/>
              <a:ext cx="552600" cy="16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3" idx="4"/>
              <a:endCxn id="234" idx="0"/>
            </p:cNvCxnSpPr>
            <p:nvPr/>
          </p:nvCxnSpPr>
          <p:spPr>
            <a:xfrm flipH="1">
              <a:off x="2963160" y="3380400"/>
              <a:ext cx="19296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5"/>
              <a:endCxn id="242" idx="2"/>
            </p:cNvCxnSpPr>
            <p:nvPr/>
          </p:nvCxnSpPr>
          <p:spPr>
            <a:xfrm>
              <a:off x="5663880" y="3104280"/>
              <a:ext cx="853200" cy="180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3" idx="4"/>
              <a:endCxn id="242" idx="0"/>
            </p:cNvCxnSpPr>
            <p:nvPr/>
          </p:nvCxnSpPr>
          <p:spPr>
            <a:xfrm>
              <a:off x="6613200" y="2612520"/>
              <a:ext cx="191880" cy="384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1" idx="3"/>
              <a:endCxn id="242" idx="7"/>
            </p:cNvCxnSpPr>
            <p:nvPr/>
          </p:nvCxnSpPr>
          <p:spPr>
            <a:xfrm flipH="1">
              <a:off x="7007760" y="2912040"/>
              <a:ext cx="554040" cy="16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1" name=""/>
            <p:cNvCxnSpPr>
              <a:stCxn id="242" idx="4"/>
              <a:endCxn id="239" idx="7"/>
            </p:cNvCxnSpPr>
            <p:nvPr/>
          </p:nvCxnSpPr>
          <p:spPr>
            <a:xfrm flipH="1">
              <a:off x="6625080" y="3572640"/>
              <a:ext cx="179640" cy="46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39" idx="3"/>
              <a:endCxn id="238" idx="6"/>
            </p:cNvCxnSpPr>
            <p:nvPr/>
          </p:nvCxnSpPr>
          <p:spPr>
            <a:xfrm flipH="1">
              <a:off x="5749560" y="4448160"/>
              <a:ext cx="468000" cy="180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37" idx="4"/>
              <a:endCxn id="236" idx="0"/>
            </p:cNvCxnSpPr>
            <p:nvPr/>
          </p:nvCxnSpPr>
          <p:spPr>
            <a:xfrm>
              <a:off x="4116600" y="3188520"/>
              <a:ext cx="1800" cy="384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34" idx="5"/>
              <a:endCxn id="244" idx="0"/>
            </p:cNvCxnSpPr>
            <p:nvPr/>
          </p:nvCxnSpPr>
          <p:spPr>
            <a:xfrm>
              <a:off x="3166920" y="4448160"/>
              <a:ext cx="1236960" cy="660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36" idx="4"/>
              <a:endCxn id="244" idx="0"/>
            </p:cNvCxnSpPr>
            <p:nvPr/>
          </p:nvCxnSpPr>
          <p:spPr>
            <a:xfrm>
              <a:off x="4116600" y="4148280"/>
              <a:ext cx="287640" cy="960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38" idx="3"/>
              <a:endCxn id="244" idx="0"/>
            </p:cNvCxnSpPr>
            <p:nvPr/>
          </p:nvCxnSpPr>
          <p:spPr>
            <a:xfrm flipH="1">
              <a:off x="4403160" y="4832640"/>
              <a:ext cx="854280" cy="27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40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ransmit through some other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termediate nod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mplosion and overlap problem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92360" y="220500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Sensor  nod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F48-DCCA-4D14-95D6-1ADB4FBB4D8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SPIN (1/2)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470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ensor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rotocols for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formation via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egotiation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ADV and REQ ar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message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26920" y="2205000"/>
            <a:ext cx="6697800" cy="413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6ED9-5215-4FFD-8C05-0A66B8799C1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SPIN (2/2)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37396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Key results of the unlimited energy simulations for the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PIN-1, flooding, and gossiping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protocols compared with the ideal data distribution protocol.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826920" y="3573360"/>
          <a:ext cx="7871040" cy="2046240"/>
        </p:xfrm>
        <a:graphic>
          <a:graphicData uri="http://schemas.openxmlformats.org/drawingml/2006/table">
            <a:tbl>
              <a:tblPr/>
              <a:tblGrid>
                <a:gridCol w="1968840"/>
                <a:gridCol w="1966680"/>
                <a:gridCol w="1968480"/>
                <a:gridCol w="19670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rotoco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PIN-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Flooding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Gossiping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nergy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issipation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0.4J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6.3J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44.1J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onvergence Ti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90 m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10 m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3025 m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7970-DB6E-43CB-83C7-768FE8BB6DB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Directed Diffusion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015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Simplified schematic for directed diffusion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(a)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Interest (query)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 propagation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(b) Initial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gradients (data matching the interest)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 setup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(c)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Data (event)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 delivery along reinforced path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23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1751-AD39-490A-81C7-A4562ECB7BD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Hierarchical Routing Protocols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ustering                A cluster hierarch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8540640" cy="306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0E3A-B24F-4B89-BFD9-C7B0CFAB37A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9ac"/>
                </a:solidFill>
                <a:latin typeface="Arial"/>
              </a:rPr>
              <a:t>Clustering Sensor Network Architecture 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14360" y="1635120"/>
            <a:ext cx="831528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AFCB-8BEF-4BB4-8211-B6DC9913B93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LEACH (1/3)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Low-Energy Adaptive Clustering Hierarchy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andomly rotating the cluster-head among sensor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Low energy consumptio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Low Diameter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300320" y="2421000"/>
            <a:ext cx="6440040" cy="3863880"/>
            <a:chOff x="1300320" y="2421000"/>
            <a:chExt cx="6440040" cy="3863880"/>
          </a:xfrm>
        </p:grpSpPr>
        <p:sp>
          <p:nvSpPr>
            <p:cNvPr id="276" name=""/>
            <p:cNvSpPr/>
            <p:nvPr/>
          </p:nvSpPr>
          <p:spPr>
            <a:xfrm>
              <a:off x="5885280" y="4900320"/>
              <a:ext cx="165528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Cluster head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32480" y="3340800"/>
              <a:ext cx="2207880" cy="2207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91800" y="2421000"/>
              <a:ext cx="1839600" cy="1839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00320" y="2788920"/>
              <a:ext cx="2391120" cy="239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68600" y="4444920"/>
              <a:ext cx="551160" cy="551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04440" y="2972520"/>
              <a:ext cx="551160" cy="551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19760" y="3892680"/>
              <a:ext cx="551160" cy="551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68600" y="3340800"/>
              <a:ext cx="549720" cy="551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35640" y="3447720"/>
              <a:ext cx="550080" cy="551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35640" y="2527920"/>
              <a:ext cx="550080" cy="551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97640" y="3079800"/>
              <a:ext cx="552240" cy="551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00760" y="3709080"/>
              <a:ext cx="551160" cy="551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68680" y="4444920"/>
              <a:ext cx="551160" cy="551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20200" y="3709080"/>
              <a:ext cx="552600" cy="551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08200" y="5549040"/>
              <a:ext cx="1102320" cy="735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Sink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83" idx="5"/>
              <a:endCxn id="282" idx="1"/>
            </p:cNvCxnSpPr>
            <p:nvPr/>
          </p:nvCxnSpPr>
          <p:spPr>
            <a:xfrm>
              <a:off x="2138760" y="3812040"/>
              <a:ext cx="162720" cy="16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81" idx="4"/>
              <a:endCxn id="282" idx="0"/>
            </p:cNvCxnSpPr>
            <p:nvPr/>
          </p:nvCxnSpPr>
          <p:spPr>
            <a:xfrm flipH="1">
              <a:off x="2495160" y="3524760"/>
              <a:ext cx="183960" cy="36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3" name=""/>
            <p:cNvCxnSpPr>
              <a:stCxn id="287" idx="5"/>
              <a:endCxn id="288" idx="0"/>
            </p:cNvCxnSpPr>
            <p:nvPr/>
          </p:nvCxnSpPr>
          <p:spPr>
            <a:xfrm>
              <a:off x="6371640" y="4180680"/>
              <a:ext cx="173160" cy="26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89" idx="3"/>
              <a:endCxn id="288" idx="7"/>
            </p:cNvCxnSpPr>
            <p:nvPr/>
          </p:nvCxnSpPr>
          <p:spPr>
            <a:xfrm flipH="1">
              <a:off x="6739200" y="4180680"/>
              <a:ext cx="1616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88" idx="2"/>
              <a:endCxn id="290" idx="0"/>
            </p:cNvCxnSpPr>
            <p:nvPr/>
          </p:nvCxnSpPr>
          <p:spPr>
            <a:xfrm flipH="1">
              <a:off x="4059360" y="4721040"/>
              <a:ext cx="2209680" cy="82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85" idx="4"/>
              <a:endCxn id="284" idx="0"/>
            </p:cNvCxnSpPr>
            <p:nvPr/>
          </p:nvCxnSpPr>
          <p:spPr>
            <a:xfrm>
              <a:off x="4811040" y="3079800"/>
              <a:ext cx="1440" cy="36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82" idx="5"/>
              <a:endCxn id="290" idx="0"/>
            </p:cNvCxnSpPr>
            <p:nvPr/>
          </p:nvCxnSpPr>
          <p:spPr>
            <a:xfrm>
              <a:off x="2690280" y="4364280"/>
              <a:ext cx="1370160" cy="118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8" name=""/>
            <p:cNvCxnSpPr>
              <a:stCxn id="284" idx="4"/>
              <a:endCxn id="290" idx="0"/>
            </p:cNvCxnSpPr>
            <p:nvPr/>
          </p:nvCxnSpPr>
          <p:spPr>
            <a:xfrm flipH="1">
              <a:off x="4059360" y="3999240"/>
              <a:ext cx="751680" cy="154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9" name=""/>
            <p:cNvSpPr/>
            <p:nvPr/>
          </p:nvSpPr>
          <p:spPr>
            <a:xfrm>
              <a:off x="2955600" y="3892680"/>
              <a:ext cx="552600" cy="551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cxnSp>
          <p:nvCxnSpPr>
            <p:cNvPr id="300" name=""/>
            <p:cNvCxnSpPr>
              <a:stCxn id="280" idx="7"/>
              <a:endCxn id="282" idx="3"/>
            </p:cNvCxnSpPr>
            <p:nvPr/>
          </p:nvCxnSpPr>
          <p:spPr>
            <a:xfrm flipV="1">
              <a:off x="2138760" y="4363560"/>
              <a:ext cx="162720" cy="16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9" idx="2"/>
              <a:endCxn id="282" idx="6"/>
            </p:cNvCxnSpPr>
            <p:nvPr/>
          </p:nvCxnSpPr>
          <p:spPr>
            <a:xfrm flipH="1">
              <a:off x="2770920" y="4169160"/>
              <a:ext cx="18504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86" idx="5"/>
              <a:endCxn id="284" idx="2"/>
            </p:cNvCxnSpPr>
            <p:nvPr/>
          </p:nvCxnSpPr>
          <p:spPr>
            <a:xfrm>
              <a:off x="4269960" y="3551400"/>
              <a:ext cx="266400" cy="17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3" name=""/>
            <p:cNvSpPr/>
            <p:nvPr/>
          </p:nvSpPr>
          <p:spPr>
            <a:xfrm>
              <a:off x="6007680" y="2907360"/>
              <a:ext cx="128844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Cluster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4F0-A635-4041-9798-BB80152F785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LEACH (2/3)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During the set-up phase, a sensor node chooses a random number between 0 and 1. If this 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random number is less than the threshold </a:t>
            </a:r>
            <a:r>
              <a:rPr b="0" i="1" lang="zh-TW" sz="3200" spc="-1" strike="noStrike">
                <a:solidFill>
                  <a:srgbClr val="cc3300"/>
                </a:solidFill>
                <a:latin typeface="Arial"/>
              </a:rPr>
              <a:t>T(n),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 the sensor node is a cluster-head.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i="1" lang="zh-TW" sz="3200" spc="-1" strike="noStrike">
                <a:solidFill>
                  <a:srgbClr val="080808"/>
                </a:solidFill>
                <a:latin typeface="Arial"/>
              </a:rPr>
              <a:t>T(n)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 is calculated as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755640" y="4292640"/>
                <a:ext cx="504036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4C7B-913C-4D47-BB8D-C4E3699DCE2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LEACH (3/3)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Dynamic cluster formation during two different rounds of LEACH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Lifetime: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5%↑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Proactive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uitable for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periodicity application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3556080" cy="540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9915-7894-459C-883C-780F8299CA6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Wireless Sensor Networks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94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Wireless Sensor Networks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Many (often </a:t>
            </a: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mall</a:t>
            </a: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devices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Wireless </a:t>
            </a: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communication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Power by </a:t>
            </a: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batteries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Limited processing capabilities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Often operate in </a:t>
            </a: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noise and harsh environments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Monitor and control a physical process or system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last-meter”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459240" cy="504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F5A-8F0B-4544-994D-40186CE38F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TEEN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hreshold sensitive Energy Efficient sensor Network protoco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Hard Threshold</a:t>
            </a:r>
            <a:r>
              <a:rPr b="1" i="1" lang="en-US" sz="24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80808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80808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is is a threshold value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for the sensed attribute. It is the absolute value of the attribute beyond which, the node sensing this value must switch on its transmitter and report to its cluster head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Soft Threshold</a:t>
            </a:r>
            <a:r>
              <a:rPr b="1" i="1" lang="en-US" sz="24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80808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80808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is is a small change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in the value of the sensed attribute which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riggers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e node to switch on its transmitter and transmit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Reactiv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uitable for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ime-critical application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415-7BF9-498E-BC76-D38E5B47866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V. Research Teams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9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Overseas Research Organizations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MIT 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[3,12]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μAMPS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μ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-</a:t>
            </a: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daptive </a:t>
            </a: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ulti-Domain </a:t>
            </a: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P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ower </a:t>
            </a: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ware </a:t>
            </a: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ensors) 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LEACH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ow </a:t>
            </a: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nergy </a:t>
            </a: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daptive </a:t>
            </a: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lustering </a:t>
            </a: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H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ierarchy) 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SPIN 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ensor </a:t>
            </a: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P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rotocols for </a:t>
            </a: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nformation via </a:t>
            </a: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N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egotiation)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UCLA 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[13, 29]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WINS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W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ireless </a:t>
            </a: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ntegrated </a:t>
            </a: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N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etwork </a:t>
            </a: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ensors)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Provide distributed network and Internet access to sensors, controls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, and processors”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U.C. Berkeley 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[25, 28]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Smart dus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PicoRadio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Develop a ‘‘system-on-chip (SoC)’’ implementation of a PicoNode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NEST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N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etwork </a:t>
            </a: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mbedded </a:t>
            </a: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ystem </a:t>
            </a: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T</a:t>
            </a: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echnology)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TinyOS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Project Plans of National Science Council [37]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3300"/>
                </a:solidFill>
                <a:latin typeface="標楷體"/>
                <a:ea typeface="標楷體"/>
              </a:rPr>
              <a:t>無線感測網路之關鍵技術及在社區照護之應用</a:t>
            </a:r>
            <a:r>
              <a:rPr b="0" lang="zh-TW" sz="1200" spc="-1" strike="noStrike">
                <a:solidFill>
                  <a:srgbClr val="cc3300"/>
                </a:solidFill>
                <a:latin typeface="Times New Roman"/>
                <a:ea typeface="標楷體"/>
              </a:rPr>
              <a:t>─</a:t>
            </a:r>
            <a:r>
              <a:rPr b="0" lang="zh-TW" sz="1200" spc="-1" strike="noStrike">
                <a:solidFill>
                  <a:srgbClr val="cc3300"/>
                </a:solidFill>
                <a:latin typeface="標楷體"/>
                <a:ea typeface="標楷體"/>
              </a:rPr>
              <a:t>子計畫四</a:t>
            </a:r>
            <a:r>
              <a:rPr b="0" lang="zh-TW" sz="1200" spc="-1" strike="noStrike">
                <a:solidFill>
                  <a:srgbClr val="080808"/>
                </a:solidFill>
                <a:latin typeface="標楷體"/>
                <a:ea typeface="標楷體"/>
              </a:rPr>
              <a:t> </a:t>
            </a:r>
            <a:r>
              <a:rPr b="0" lang="zh-TW" sz="1200" spc="-1" strike="noStrike">
                <a:solidFill>
                  <a:srgbClr val="080808"/>
                </a:solidFill>
                <a:latin typeface="標楷體"/>
                <a:ea typeface="標楷體"/>
              </a:rPr>
              <a:t>(93</a:t>
            </a:r>
            <a:r>
              <a:rPr b="0" lang="zh-TW" sz="1200" spc="-1" strike="noStrike">
                <a:solidFill>
                  <a:srgbClr val="080808"/>
                </a:solidFill>
                <a:latin typeface="標楷體"/>
                <a:ea typeface="標楷體"/>
              </a:rPr>
              <a:t>年度</a:t>
            </a:r>
            <a:r>
              <a:rPr b="0" lang="zh-TW" sz="1200" spc="-1" strike="noStrike">
                <a:solidFill>
                  <a:srgbClr val="080808"/>
                </a:solidFill>
                <a:latin typeface="標楷體"/>
                <a:ea typeface="標楷體"/>
              </a:rPr>
              <a:t>)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80808"/>
                </a:solidFill>
                <a:latin typeface="Times New Roman"/>
                <a:ea typeface="標楷體"/>
              </a:rPr>
              <a:t>王勝德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80808"/>
                </a:solidFill>
                <a:latin typeface="標楷體"/>
                <a:ea typeface="標楷體"/>
              </a:rPr>
              <a:t>國立臺灣大學電機工程學系暨研究所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80808"/>
                </a:solidFill>
                <a:latin typeface="標楷體"/>
                <a:ea typeface="標楷體"/>
              </a:rPr>
              <a:t>執行起迄：</a:t>
            </a:r>
            <a:r>
              <a:rPr b="0" lang="zh-TW" sz="1200" spc="-1" strike="noStrike">
                <a:solidFill>
                  <a:srgbClr val="080808"/>
                </a:solidFill>
                <a:latin typeface="Times New Roman"/>
                <a:ea typeface="標楷體"/>
              </a:rPr>
              <a:t>20040801</a:t>
            </a:r>
            <a:r>
              <a:rPr b="0" lang="zh-TW" sz="1200" spc="-1" strike="noStrike">
                <a:solidFill>
                  <a:srgbClr val="080808"/>
                </a:solidFill>
                <a:latin typeface="標楷體"/>
                <a:ea typeface="標楷體"/>
              </a:rPr>
              <a:t>～</a:t>
            </a:r>
            <a:r>
              <a:rPr b="0" lang="zh-TW" sz="1200" spc="-1" strike="noStrike">
                <a:solidFill>
                  <a:srgbClr val="080808"/>
                </a:solidFill>
                <a:latin typeface="Times New Roman"/>
                <a:ea typeface="標楷體"/>
              </a:rPr>
              <a:t>20050731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80808"/>
                </a:solidFill>
                <a:latin typeface="標楷體"/>
                <a:ea typeface="標楷體"/>
              </a:rPr>
              <a:t>核定金額：</a:t>
            </a:r>
            <a:r>
              <a:rPr b="0" lang="zh-TW" sz="1200" spc="-1" strike="noStrike">
                <a:solidFill>
                  <a:srgbClr val="080808"/>
                </a:solidFill>
                <a:latin typeface="Times New Roman"/>
                <a:ea typeface="標楷體"/>
              </a:rPr>
              <a:t> </a:t>
            </a:r>
            <a:r>
              <a:rPr b="0" lang="zh-TW" sz="1200" spc="-1" strike="noStrike">
                <a:solidFill>
                  <a:srgbClr val="080808"/>
                </a:solidFill>
                <a:latin typeface="Times New Roman"/>
                <a:ea typeface="標楷體"/>
              </a:rPr>
              <a:t>624,800 </a:t>
            </a:r>
            <a:r>
              <a:rPr b="0" lang="zh-TW" sz="1200" spc="-1" strike="noStrike">
                <a:solidFill>
                  <a:srgbClr val="080808"/>
                </a:solidFill>
                <a:latin typeface="標楷體"/>
                <a:ea typeface="標楷體"/>
              </a:rPr>
              <a:t>元</a:t>
            </a:r>
            <a:r>
              <a:rPr b="0" lang="zh-TW" sz="1200" spc="-1" strike="noStrike">
                <a:solidFill>
                  <a:srgbClr val="080808"/>
                </a:solidFill>
                <a:latin typeface="Times New Roman"/>
                <a:ea typeface="標楷體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Times New Roman"/>
                <a:ea typeface="標楷體"/>
              </a:rPr>
              <a:t>…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2920" y="1267920"/>
            <a:ext cx="4194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Network Optimization Research Laborator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Frank Y.S. Lin and P.L. Chiu , “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A Near-optimal Sensor Placement Algorithm to Achieve Complete Coverage/Discrimination in Sensor Networks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,” </a:t>
            </a:r>
            <a:r>
              <a:rPr b="0" i="1" lang="zh-TW" sz="1800" spc="-1" strike="noStrike">
                <a:solidFill>
                  <a:srgbClr val="080808"/>
                </a:solidFill>
                <a:latin typeface="Arial"/>
              </a:rPr>
              <a:t>IEEE Communications Letters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, January, 200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Chih-Wei Shiou, Advisor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：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Dr. Frank Yeong-Sung Lin, “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Optimal Energy-Efficient Routing for Wireless Sensor Networks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,” </a:t>
            </a:r>
            <a:r>
              <a:rPr b="0" i="1" lang="zh-TW" sz="1800" spc="-1" strike="noStrike">
                <a:solidFill>
                  <a:srgbClr val="080808"/>
                </a:solidFill>
                <a:latin typeface="Arial"/>
              </a:rPr>
              <a:t>NTU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, July, 2004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Keng-Hung Yeh, Advisor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：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Dr. Frank Yeong-Sung Lin, “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An Energy-Efficient Routing Algorithm for The Maximization of System Lifetime in Wireless Sensor Networks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,” </a:t>
            </a:r>
            <a:r>
              <a:rPr b="0" i="1" lang="zh-TW" sz="1800" spc="-1" strike="noStrike">
                <a:solidFill>
                  <a:srgbClr val="080808"/>
                </a:solidFill>
                <a:latin typeface="Arial"/>
              </a:rPr>
              <a:t>NTU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, July, 2004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DCBC-7321-4D3B-A72E-137CBBEF417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Related Work (1/4)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Physical Layer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[1, 4]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667480" y="1755360"/>
            <a:ext cx="3657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imple and low-power modulation schem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Hardware design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24880" y="2232720"/>
            <a:ext cx="312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標楷體"/>
              </a:rPr>
              <a:t>Table 4.2 Useful sleep states for the sensor node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95280" y="2565360"/>
          <a:ext cx="5308560" cy="1828800"/>
        </p:xfrm>
        <a:graphic>
          <a:graphicData uri="http://schemas.openxmlformats.org/drawingml/2006/table">
            <a:tbl>
              <a:tblPr/>
              <a:tblGrid>
                <a:gridCol w="1327320"/>
                <a:gridCol w="1326960"/>
                <a:gridCol w="1327320"/>
                <a:gridCol w="1326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SA-1110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Sensor, A/D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Radio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Active(s</a:t>
                      </a:r>
                      <a:r>
                        <a:rPr b="0" lang="en-US" sz="1200" spc="-1" strike="noStrike" baseline="-30000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sense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tx/rx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Ready(s</a:t>
                      </a:r>
                      <a:r>
                        <a:rPr b="0" lang="en-US" sz="1200" spc="-1" strike="noStrike" baseline="-30000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idle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sense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rx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Monitor(s</a:t>
                      </a:r>
                      <a:r>
                        <a:rPr b="0" lang="en-US" sz="1200" spc="-1" strike="noStrike" baseline="-30000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sleep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sense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rx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Observe(s</a:t>
                      </a:r>
                      <a:r>
                        <a:rPr b="0" lang="en-US" sz="1200" spc="-1" strike="noStrike" baseline="-30000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sleep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sense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Deep Sleep(s</a:t>
                      </a:r>
                      <a:r>
                        <a:rPr b="0" lang="en-US" sz="1200" spc="-1" strike="noStrike" baseline="-30000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sleep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1051200" y="4482000"/>
            <a:ext cx="260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標楷體"/>
              </a:rPr>
              <a:t>Table 4.3 Sleep state power and latency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395280" y="4724280"/>
          <a:ext cx="3981600" cy="1647720"/>
        </p:xfrm>
        <a:graphic>
          <a:graphicData uri="http://schemas.openxmlformats.org/drawingml/2006/table">
            <a:tbl>
              <a:tblPr/>
              <a:tblGrid>
                <a:gridCol w="1327320"/>
                <a:gridCol w="1326960"/>
                <a:gridCol w="1327320"/>
              </a:tblGrid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P</a:t>
                      </a:r>
                      <a:r>
                        <a:rPr b="0" lang="zh-TW" sz="1200" spc="-1" strike="noStrike" baseline="-30000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k</a:t>
                      </a:r>
                      <a:r>
                        <a:rPr b="0" lang="zh-TW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(mW)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80808"/>
                          </a:solidFill>
                          <a:latin typeface="標楷體"/>
                          <a:ea typeface="標楷體"/>
                        </a:rPr>
                        <a:t>τ</a:t>
                      </a:r>
                      <a:r>
                        <a:rPr b="0" lang="zh-TW" sz="1200" spc="-1" strike="noStrike" baseline="-30000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k</a:t>
                      </a:r>
                      <a:r>
                        <a:rPr b="0" lang="zh-TW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(ms)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1040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Ready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400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5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Monitor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270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15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Look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200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20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Deep Sleep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50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4500720" y="4581360"/>
            <a:ext cx="4643280" cy="1441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FBD8-9D35-45E8-A19A-9A4D339F2FE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Related Work (2/4)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ata Link Layer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[4]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435640" y="1628640"/>
            <a:ext cx="34812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Self-organization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Power saving modes of operation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6320" y="2367720"/>
            <a:ext cx="458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標楷體"/>
              </a:rPr>
              <a:t>Table 4.4 A qualitative overview of MAC protocols for sensor networks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57320" y="2800440"/>
          <a:ext cx="5310000" cy="3481200"/>
        </p:xfrm>
        <a:graphic>
          <a:graphicData uri="http://schemas.openxmlformats.org/drawingml/2006/table">
            <a:tbl>
              <a:tblPr/>
              <a:tblGrid>
                <a:gridCol w="982440"/>
                <a:gridCol w="1371600"/>
                <a:gridCol w="1600200"/>
                <a:gridCol w="135576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MAC protocol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Channel access mode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Sensor network specifics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Power conservation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SMACS[14]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Fixed allocation of duplex time slots at fixed frequency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Exploitation of large available bandwidth compared to sensor data rate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Random wake up during setup and turning radio off while idle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Hybrid TDMA/FDMA[1]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Frequency and time division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Optimum number of channels calculated for minimum system energy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Hardware-based approach for system energy minimization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CSMA-based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Contention-based random access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Designed for minimum delay and maximum throughput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Constant listening time for energy efficiency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Sensor-MAC (SMAC)[15]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Nodes periodically sleep and wake up.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Not suitable for time-critical applications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A node sleeps during transmission period of other nodes.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Nodes periodically sleep and turning radio off while sleep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"/>
          <p:cNvSpPr/>
          <p:nvPr/>
        </p:nvSpPr>
        <p:spPr>
          <a:xfrm>
            <a:off x="0" y="530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DAF-1BA4-45DC-98CF-2C17F67CF25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Related Work (3/4)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Network Layer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[4, 6]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15360" y="2204280"/>
            <a:ext cx="31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標楷體"/>
              </a:rPr>
              <a:t>Table 4.5 An overview of network layer schemes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908000" y="2565360"/>
          <a:ext cx="5218200" cy="2990880"/>
        </p:xfrm>
        <a:graphic>
          <a:graphicData uri="http://schemas.openxmlformats.org/drawingml/2006/table">
            <a:tbl>
              <a:tblPr/>
              <a:tblGrid>
                <a:gridCol w="1347840"/>
                <a:gridCol w="387036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Network layer scheme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Description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Flooding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Broadcasts data to all neighbor nodes regardless if they receive it before or not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Gossiping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Sends data to one randomly selected neighbor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SPIN[9]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Sends data to sensor nodes only if they are interested; has three types of messages (i.e., ADV, REQ, and DATA)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Directed diffusion[10]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Sets up gradients for data to flow from source to sink during interest dissemination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LEACH[11]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Forms clusters to minimize energy dissipation, LEACH protocol for proactive networks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TEEN[20]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80808"/>
                          </a:solidFill>
                          <a:latin typeface="Times New Roman"/>
                          <a:ea typeface="標楷體"/>
                        </a:rPr>
                        <a:t>Threshold sensitive Energy Efficient sensor Network protocol for reactive networks</a:t>
                      </a:r>
                      <a:endParaRPr b="0" lang="en-US" sz="11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0" y="535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EA85-9370-42BC-99DA-A82BDDA1D99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Related Work (4/4)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pplication Layer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[6]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Object trackin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38" name="tracking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4448520" cy="3429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2030040" y="5157000"/>
            <a:ext cx="5185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標楷體"/>
              </a:rPr>
              <a:t>Fig. 4.4 (a) A detects the incoming vehicle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標楷體"/>
              </a:rPr>
              <a:t> </a:t>
            </a: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標楷體"/>
              </a:rPr>
              <a:t>(b) the sensing activities of C, D, and E are suppressed but B starts tracking again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標楷體"/>
              </a:rPr>
              <a:t>(c) the vehicle comes into B's area and C restarts its sensor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標楷體"/>
              </a:rPr>
              <a:t> </a:t>
            </a: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標楷體"/>
              </a:rPr>
              <a:t>(d) C and D detect the vehicle and E's sensor is restarted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標楷體"/>
              </a:rPr>
              <a:t> </a:t>
            </a: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標楷體"/>
              </a:rPr>
              <a:t>(e) the vehicle goes out of A and B's ranges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標楷體"/>
              </a:rPr>
              <a:t> </a:t>
            </a: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標楷體"/>
              </a:rPr>
              <a:t>(f) sensing activity at A stops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644-9A12-4148-9859-279B2ACD517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V. Platform of Wireless Sensor Networks</a:t>
            </a:r>
            <a:endParaRPr b="0" lang="en-US" sz="36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IEEE 802.15.4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[30, 32]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Maximum economic efficienc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Standardization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Low-Rate Wireless Personal Area Network (LR-WPAN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Physical Layer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Data Link Layer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Characteristics of 802.15.4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2.4GHz, 915MHz, 868Mhz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Star, Peer to Peer, Cluster Tre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IEEE 802.11 CSMA/CA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64 bits (Extended Address) and 16 bits (Short Address)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Low energy consumption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TinyOS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[28]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It is based on an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event driven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 execution engine that simultaneously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provides efficiency and fine-grained concurrenc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TinyOS 1.1.7 (2004/7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Hardware Platform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7566-9FAF-4897-BC31-A1AB314DC4C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Hardware Platform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8280360" cy="5257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468360" y="6093000"/>
            <a:ext cx="867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http://www-unix.mcs.anl.gov/~beckman/wireless-sensor-networks/Intro-Sensor-Nets.pdf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08360" y="4005360"/>
            <a:ext cx="287280" cy="28728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048520" y="4005360"/>
            <a:ext cx="339840" cy="28728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101080" y="2421000"/>
            <a:ext cx="287280" cy="43164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59280" y="2349360"/>
            <a:ext cx="288720" cy="50328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1436-3768-4C19-A441-3753A45CF15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VI. Future Research Direction</a:t>
            </a: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413000"/>
            <a:ext cx="8540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tructural design of Wireless Sensor Networks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edia access control schem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leeping schedul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ault toler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Energy and resource management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nsor deployment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Object monitoring and tracking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715E-21C0-4C6C-9A27-607783F4BA3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Research Method [23]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s a decision-making tool, mathematical programming is both a science and an art”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The principal phases for implementing mathematical programming in practice include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80808"/>
              </a:buClr>
              <a:buSzPct val="8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efinition of the problem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80808"/>
              </a:buClr>
              <a:buSzPct val="8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onstruction of the model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80808"/>
              </a:buClr>
              <a:buSzPct val="8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olution of the model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80808"/>
              </a:buClr>
              <a:buSzPct val="8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alidation of the model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80808"/>
              </a:buClr>
              <a:buSzPct val="8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mplementation of the solution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F2D9-A587-4BC1-8C13-A67EDBB2928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40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39ac"/>
                </a:solidFill>
                <a:latin typeface="Arial"/>
                <a:ea typeface="標楷體"/>
              </a:rPr>
              <a:t>鐵路局宜蘭線濁水溪橋自動化安全監控</a:t>
            </a:r>
            <a:endParaRPr b="0" lang="en-US" sz="38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71440" y="801720"/>
            <a:ext cx="8604360" cy="564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5D37-39BB-4CC6-9082-79F8E69E1B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540640" cy="34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3300"/>
                </a:solidFill>
                <a:latin typeface="Arial"/>
                <a:ea typeface="標楷體"/>
              </a:rPr>
              <a:t>Thank You!</a:t>
            </a:r>
            <a:endParaRPr b="0" lang="en-US" sz="72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3300"/>
                </a:solidFill>
                <a:latin typeface="Arial"/>
                <a:ea typeface="標楷體"/>
              </a:rPr>
              <a:t>Q &amp; A</a:t>
            </a:r>
            <a:endParaRPr b="0" lang="en-US" sz="9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E700-577E-444F-A5F2-969224AE5E1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References</a:t>
            </a: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 (1/4)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89320" indent="-57276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E. Shih, S. Cho, N. Ickes, R. Min, A. Sinha, A. Wang, A. Chandrakasan, “Physical layer driven protocol and algorithm design for energy-efficient wireless sensor networks,” Proceedings of ACM MobiCom’01, Rome, Italy, pp. 272-286, July 2001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589320" indent="-57276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C. E. Perkins, “Ad Hoc Networks,”Addison-Wesley, 2001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589320" indent="-57276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Anna Hac, “Wireless sensor network designs,” Wiley, 2003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589320" indent="-57276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I.F. Akyildiz, W. Su, Y. Sankarasubramaniam, E. Cayirci, “A Survey on Wireless sensor network,”IEEE Communication Magazine, pp. 102-114, August 2002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589320" indent="-57276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Frank Y.S. Lin and P.L. Chiu , “A Near-optimal Sensor Placement Algorithm to Achieve Complete Coverage/Discrimination in Sensor Networks ,”  IEEE Communications Letters, (to appear).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589320" indent="-57276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C.C. Shen, C. Drisathapornphat, and C. Jaikaeo,“Sensor Information Networking Architecture and Applications,” IEEE Personal Communications, Augest 2001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589320" indent="-57276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S. Tilak, B. Abu-Ghazaleh, and W. Heinzelman, “A Taxonomy of wireless micro-sensor network models,” Mobile Computing and Communications Review, vol. 1 no. 2, 2002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589320" indent="-57276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I.F. Akyildiz, W. Su, Y. Sankarasubramaniam, E. Cayirci, “Wireless sensor network: a survey,”Computer Networks , vol. 38, pp. 393-422, 2002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589320" indent="-57276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W. Heinzelman, J. Kulik, and H. Balakrishnan, “Adaptive Protocols for Information Dissemination in Wireless Sensor Networks,” in Proceedings of the Fifth Annual ACM/IEEE International Conference on Mobile Computing and Networking (MobiCom ’99), pp. 174-185, Aug. 1999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589320" indent="-57276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C. Intanagonwiwat, R. Govindan, D. Estrin, J. Heidemann, F. Silva, “Directed diffusion for wireless sensor networking,” IEEE/ACM Transactions on Networking, vol. 11, no. 1, pp. 2-16, Feb. 2003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97B4-E938-4EFD-BCF7-CEF4830F252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References (2/4)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89320" indent="-57276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W. B. Heinzelman, P. Chandrakasan, and H. Balakrishnan, “An application-specific protocol architecture for wireless microsensor networks,” IEEE Transactions on Wireless Communications, vol. 1, no. 4, pp. 660-670, Oct. 2002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589320" indent="-57276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MIT,” μ-Adaptive Multi-domain Power aware Sensors,” http://www-mtl.mit.edu/research/icsystems/uamps, 2004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589320" indent="-57276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UCLA,” Wireless Integrated Network Sensors,” http://www.janet.ucla.edu/WINS, 2004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589320" indent="-57276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K. Sohrabi, J. Gao, V. Ailawadhi, G.J. Pottie, “Protocols for self-organization of a wireless sensor network,” IEEE Personal Communications, pp. 16-27, Oct. 2000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589320" indent="-57276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W. Ye, J. Heidemann, D. Estrin, “An energy-efficient MAC protocol for wireless sensor networks,” IEEE INFOCOM 2002, pp. 1567-1576, 2002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589320" indent="-57276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Chih-Wei Shiou, Advisor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：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Dr. Frank Yeong-Sung Lin, “Optimal Energy-Efficient Routing for Wireless Sensor Networks,” NTU, July, 2004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589320" indent="-57276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Keng-Hung Yeh, Advisor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：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Dr. Frank Yeong-Sung Lin, “An Energy-Efficient Routing Algorithm for The Maximization of System Lifetime in Wireless Sensor Networks,” NTU, July, 2004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589320" indent="-57276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Chi-Fu Huang, Yu-Chee Tseng, “The Coverage Problem in a Wireless Sensor Network,” WSNA, Sep. 19, 2003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589320" indent="-57276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Jason Lester Hill, “System Architecture for Wireless Sensor Networks,” Chapter 1 and 2, UC, Berkeley, 2003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589320" indent="-57276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A. Manjeshwar and D.P. Agrawal. “TEEN: a Routing Protocol for enhanced efficiency In wireless sensor networks,” Parallel and Distributed Processing Symposium., Proceedings 15th, pp. 23-27 April 2001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22B-2D29-4718-8CE6-62A0BB55AFB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References (3/4)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Budhaditya Deb, Sudeep Bhatnagar and Badri Nath, “A Topology Discovery Algorithm for Sensor Networks with Applications to Network Management,” in IEEE CAS workshop, September 2002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627120" indent="-60948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A. bharathidasan, V.A.S. Ponduru, “Sensor Networks: an Overview,” Potentials, IEEE, pp20-23, April-May 2003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627120" indent="-60948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Hamdy A. Taha, “Operations Research: an Introduction,” chapter 1, seventh edition, 1982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627120" indent="-60948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ALERT” http://www.alertsystems.org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627120" indent="-60948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U.C. Berkeley,” Smart Dust Project,” http://robotics.eecs.berkeley.edu/~pister/SmartDust,2004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627120" indent="-60948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U.C. Berkeley,”A smart dust mote,” http://www.coe.berkeley.edu/labnotes/0701brainybuildings.html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627120" indent="-60948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U.C. Berkeley,” NEST Project,” http://webs.cs.berkeley.edu/nest-index.html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627120" indent="-60948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TinyOS Community Forum, “TinyOS,” http://www.tinyos.net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627120" indent="-60948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G.J. Pottie, W.J. Kaiser, “Wireless integrated network sensors”, Communications of the ACM 43 (5), pp.551–558. 2000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627120" indent="-60948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IEEE,” IEEE 802.15 Working Group for WPAN,” http://ieee802.org/15/index.html, 2004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F9FE-9FD1-4954-AF51-8213ADE2703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References (4/4)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3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Sensor Hardware, http://www.ece.cmu.edu/~adrian/projects/mc2001/node2.html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627120" indent="-60948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3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吳健豪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, 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尹華強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, 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許獻聰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,” 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感測網路的技術與進展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,” 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通訊雜誌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, 116, pp.64-69, Sep. 2003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627120" indent="-60948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3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韓永祥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, 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王藏億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,” Survey of Wireless Sensor Networks,” http://www.cm.nctu.edu.tw/Chinese/seni/dm/nm5.htm, 2004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627120" indent="-60948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3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莊裕澤博士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, “Distributed Systems, Synchronizing Physical Time, and Mobile Computing,” 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分散式系統上課講義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, 2002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627120" indent="-60948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3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孫雅麗博士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, “IEEE 802.11b – Wireless LAN,” 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高等計算機網路上課講義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, 2002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627120" indent="-60948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3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林永松博士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, “Network Planning and Capacity Management,” 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高等計算機網路上課講義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, 2003.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627120" indent="-609480">
              <a:spcBef>
                <a:spcPts val="349"/>
              </a:spcBef>
              <a:buClr>
                <a:srgbClr val="080808"/>
              </a:buClr>
              <a:buSzPct val="85000"/>
              <a:buFont typeface="Arial"/>
              <a:buAutoNum type="arabicPeriod" startAt="3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國科會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, “92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至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93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年度無線感測器網路相關專題研究計畫” </a:t>
            </a:r>
            <a:r>
              <a:rPr b="0" lang="zh-TW" sz="1400" spc="-1" strike="noStrike">
                <a:solidFill>
                  <a:srgbClr val="080808"/>
                </a:solidFill>
                <a:latin typeface="Arial"/>
              </a:rPr>
              <a:t>http://web.nsc.gov.tw, 2004.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924D-01E3-41CF-9219-63828A449D0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9ac"/>
                </a:solidFill>
                <a:latin typeface="Arial"/>
              </a:rPr>
              <a:t>Wireless Sensor Networks vs. Ad Hoc Networks [2, 4, 8] </a:t>
            </a:r>
            <a:endParaRPr b="0" lang="en-US" sz="32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2720" indent="-316440">
              <a:lnSpc>
                <a:spcPct val="80000"/>
              </a:lnSpc>
              <a:spcBef>
                <a:spcPts val="601"/>
              </a:spcBef>
              <a:buClr>
                <a:srgbClr val="080808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number of sensor nodes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in a sensor network can be several orders of magnitud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igher than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the nodes in an ad hoc network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432720" indent="-316440">
              <a:lnSpc>
                <a:spcPct val="80000"/>
              </a:lnSpc>
              <a:spcBef>
                <a:spcPts val="601"/>
              </a:spcBef>
              <a:buClr>
                <a:srgbClr val="080808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ensor nodes ar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ensely deployed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432720" indent="-316440">
              <a:lnSpc>
                <a:spcPct val="80000"/>
              </a:lnSpc>
              <a:spcBef>
                <a:spcPts val="601"/>
              </a:spcBef>
              <a:buClr>
                <a:srgbClr val="080808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ensor nodes ar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prone to failures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432720" indent="-316440">
              <a:lnSpc>
                <a:spcPct val="80000"/>
              </a:lnSpc>
              <a:spcBef>
                <a:spcPts val="601"/>
              </a:spcBef>
              <a:buClr>
                <a:srgbClr val="080808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e topology of a sensor network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hanges very frequently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432720" indent="-316440">
              <a:lnSpc>
                <a:spcPct val="80000"/>
              </a:lnSpc>
              <a:spcBef>
                <a:spcPts val="601"/>
              </a:spcBef>
              <a:buClr>
                <a:srgbClr val="080808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ensor nodes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mainly us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broadcast communication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paradigm whereas most ad hoc networks are based on point-to-point communications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432720" indent="-316440">
              <a:lnSpc>
                <a:spcPct val="80000"/>
              </a:lnSpc>
              <a:spcBef>
                <a:spcPts val="601"/>
              </a:spcBef>
              <a:buClr>
                <a:srgbClr val="080808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ensor nodes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limited in power, computational capacities, and memory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432720" indent="-316440">
              <a:lnSpc>
                <a:spcPct val="80000"/>
              </a:lnSpc>
              <a:spcBef>
                <a:spcPts val="601"/>
              </a:spcBef>
              <a:buClr>
                <a:srgbClr val="080808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ensor nodes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ay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ot have global identification (ID)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because of the large amount of overhead and large number of sensors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6512-A5B7-4162-85A9-542365B421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9ac"/>
                </a:solidFill>
                <a:latin typeface="Arial"/>
              </a:rPr>
              <a:t>Components of A Sensor Node [8]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ensing Unit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Processing Unit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ransceiver Unit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Power Unit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Location Finding System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Power Generator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obilizer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492360" y="1989000"/>
            <a:ext cx="5634000" cy="3047760"/>
            <a:chOff x="3492360" y="1989000"/>
            <a:chExt cx="5634000" cy="3047760"/>
          </a:xfrm>
        </p:grpSpPr>
        <p:sp>
          <p:nvSpPr>
            <p:cNvPr id="98" name=""/>
            <p:cNvSpPr/>
            <p:nvPr/>
          </p:nvSpPr>
          <p:spPr>
            <a:xfrm>
              <a:off x="3492360" y="4427280"/>
              <a:ext cx="41349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ower Unit</a:t>
              </a:r>
              <a:endParaRPr b="0" lang="en-US" sz="1400" spc="-1" strike="noStrike">
                <a:solidFill>
                  <a:srgbClr val="08080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03440" y="4427280"/>
              <a:ext cx="122292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ower Generator</a:t>
              </a:r>
              <a:endParaRPr b="0" lang="en-US" sz="1400" spc="-1" strike="noStrike">
                <a:solidFill>
                  <a:srgbClr val="08080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92360" y="1989000"/>
              <a:ext cx="22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cation Finding System</a:t>
              </a:r>
              <a:endParaRPr b="0" lang="en-US" sz="1400" spc="-1" strike="noStrike">
                <a:solidFill>
                  <a:srgbClr val="08080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35960" y="1989000"/>
              <a:ext cx="1791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bilizer</a:t>
              </a:r>
              <a:endParaRPr b="0" lang="en-US" sz="1400" spc="-1" strike="noStrike">
                <a:solidFill>
                  <a:srgbClr val="08080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21680" y="3208320"/>
              <a:ext cx="68940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nsor</a:t>
              </a:r>
              <a:endParaRPr b="0" lang="en-US" sz="1400" spc="-1" strike="noStrike">
                <a:solidFill>
                  <a:srgbClr val="08080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11080" y="3208320"/>
              <a:ext cx="55116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DC</a:t>
              </a:r>
              <a:endParaRPr b="0" lang="en-US" sz="1400" spc="-1" strike="noStrike">
                <a:solidFill>
                  <a:srgbClr val="08080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38360" y="3208320"/>
              <a:ext cx="826920" cy="30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300" spc="-1" strike="noStrike">
                <a:solidFill>
                  <a:srgbClr val="08080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38360" y="3513240"/>
              <a:ext cx="826920" cy="30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0" lang="en-US" sz="1400" spc="-1" strike="noStrike">
                <a:solidFill>
                  <a:srgbClr val="08080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41040" y="3208320"/>
              <a:ext cx="96516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Transceiver</a:t>
              </a:r>
              <a:endParaRPr b="0" lang="en-US" sz="1300" spc="-1" strike="noStrike">
                <a:solidFill>
                  <a:srgbClr val="08080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3584160" y="2598120"/>
              <a:ext cx="0" cy="18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7444080" y="2598120"/>
              <a:ext cx="0" cy="18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043520" y="3817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686480" y="3817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5697720" y="3817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892920" y="3817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13760" y="25984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973840" y="25981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62600" y="3360600"/>
              <a:ext cx="27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65640" y="3303360"/>
              <a:ext cx="27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627320" y="4732560"/>
              <a:ext cx="27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D08E-531A-4548-9A8F-543E217D3C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ommunication Models [8]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019160" y="2058840"/>
            <a:ext cx="7105680" cy="35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CF9-CF3C-43F3-A1FE-38EFE78FD6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Sensor Network Model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0360" y="1831680"/>
            <a:ext cx="7815240" cy="3648600"/>
            <a:chOff x="540360" y="1831680"/>
            <a:chExt cx="7815240" cy="3648600"/>
          </a:xfrm>
        </p:grpSpPr>
        <p:sp>
          <p:nvSpPr>
            <p:cNvPr id="122" name=""/>
            <p:cNvSpPr/>
            <p:nvPr/>
          </p:nvSpPr>
          <p:spPr>
            <a:xfrm>
              <a:off x="540360" y="3395160"/>
              <a:ext cx="1388520" cy="52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Event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50520" y="1831680"/>
              <a:ext cx="694800" cy="364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Sensor Channel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52640" y="2208600"/>
              <a:ext cx="1561680" cy="52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Sensor Node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52640" y="3425040"/>
              <a:ext cx="1561680" cy="52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Sensor Node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52640" y="4467240"/>
              <a:ext cx="1561680" cy="52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Sensor Node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24880" y="1831680"/>
              <a:ext cx="694440" cy="364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Wireless Channel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41680" y="3395160"/>
              <a:ext cx="1213920" cy="52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Times New Roman"/>
                </a:rPr>
                <a:t>Sink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123" idx="3"/>
              <a:endCxn id="124" idx="1"/>
            </p:cNvCxnSpPr>
            <p:nvPr/>
          </p:nvCxnSpPr>
          <p:spPr>
            <a:xfrm flipV="1">
              <a:off x="3145680" y="2468880"/>
              <a:ext cx="607680" cy="118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0" name=""/>
            <p:cNvCxnSpPr>
              <a:stCxn id="123" idx="3"/>
              <a:endCxn id="125" idx="1"/>
            </p:cNvCxnSpPr>
            <p:nvPr/>
          </p:nvCxnSpPr>
          <p:spPr>
            <a:xfrm>
              <a:off x="3145680" y="3655800"/>
              <a:ext cx="607680" cy="2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1" name=""/>
            <p:cNvCxnSpPr>
              <a:stCxn id="123" idx="3"/>
              <a:endCxn id="126" idx="1"/>
            </p:cNvCxnSpPr>
            <p:nvPr/>
          </p:nvCxnSpPr>
          <p:spPr>
            <a:xfrm>
              <a:off x="3145680" y="3655800"/>
              <a:ext cx="607680" cy="1072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2" name=""/>
            <p:cNvCxnSpPr>
              <a:stCxn id="125" idx="3"/>
              <a:endCxn id="127" idx="1"/>
            </p:cNvCxnSpPr>
            <p:nvPr/>
          </p:nvCxnSpPr>
          <p:spPr>
            <a:xfrm flipV="1">
              <a:off x="5314320" y="3655440"/>
              <a:ext cx="610920" cy="2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3" name=""/>
            <p:cNvCxnSpPr>
              <a:stCxn id="124" idx="3"/>
              <a:endCxn id="127" idx="1"/>
            </p:cNvCxnSpPr>
            <p:nvPr/>
          </p:nvCxnSpPr>
          <p:spPr>
            <a:xfrm>
              <a:off x="5314320" y="2468880"/>
              <a:ext cx="610920" cy="118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4" name=""/>
            <p:cNvCxnSpPr>
              <a:stCxn id="127" idx="1"/>
              <a:endCxn id="126" idx="3"/>
            </p:cNvCxnSpPr>
            <p:nvPr/>
          </p:nvCxnSpPr>
          <p:spPr>
            <a:xfrm flipH="1">
              <a:off x="5313960" y="3655800"/>
              <a:ext cx="610920" cy="1072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5" name=""/>
            <p:cNvCxnSpPr>
              <a:stCxn id="122" idx="3"/>
              <a:endCxn id="123" idx="1"/>
            </p:cNvCxnSpPr>
            <p:nvPr/>
          </p:nvCxnSpPr>
          <p:spPr>
            <a:xfrm>
              <a:off x="1929240" y="3656160"/>
              <a:ext cx="522000" cy="1440"/>
            </a:xfrm>
            <a:prstGeom prst="straightConnector1">
              <a:avLst/>
            </a:prstGeom>
            <a:ln w="57240">
              <a:solidFill>
                <a:srgbClr val="0039a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6" name=""/>
            <p:cNvCxnSpPr>
              <a:stCxn id="127" idx="3"/>
              <a:endCxn id="128" idx="1"/>
            </p:cNvCxnSpPr>
            <p:nvPr/>
          </p:nvCxnSpPr>
          <p:spPr>
            <a:xfrm>
              <a:off x="6619320" y="3656160"/>
              <a:ext cx="522360" cy="1440"/>
            </a:xfrm>
            <a:prstGeom prst="straightConnector1">
              <a:avLst/>
            </a:prstGeom>
            <a:ln w="572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 and Management in Wireless Sensor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0C98-262B-4181-8C4F-73D039A992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3:02:51Z</dcterms:created>
  <dc:creator>ta</dc:creator>
  <dc:description/>
  <dc:language>en-US</dc:language>
  <cp:lastModifiedBy>ct</cp:lastModifiedBy>
  <dcterms:modified xsi:type="dcterms:W3CDTF">2004-11-15T14:10:26Z</dcterms:modified>
  <cp:revision>240</cp:revision>
  <dc:subject/>
  <dc:title>Markov Decision Processes:  A Survey</dc:title>
</cp:coreProperties>
</file>